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  <p:custShowLst>
    <p:custShow name="Chapter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</p:sldLst>
    </p:custShow>
    <p:custShow name="Transparencies" id="1">
      <p:sldLst>
        <p:sld r:id="rId3"/>
      </p:sldLst>
    </p:custShow>
    <p:custShow name="Chapter menu" id="2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</p:sldLst>
    </p:custShow>
    <p:custShow name="Section 1" id="3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erals of Earth’s C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1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Mineral?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tics of 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ds of 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stalli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stalline Structure of Silicate 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stalline Structure of Nonsilicate 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rystalline Structure of Silicate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6905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tetrahedral arrangement of isolated tetrahedral silicate miner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1"/>
          <a:stretch/>
        </p:blipFill>
        <p:spPr>
          <a:xfrm>
            <a:off x="801720" y="2962440"/>
            <a:ext cx="754236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rystalline Structure of Silicate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690560"/>
            <a:ext cx="840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ing Silic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ng silicates form when shared oxygen atoms join the tetrahedra to form three-, four-, or six-sided r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yl and tourmaline are ring silic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ngle-Chain Silic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ingle-chain silicates, each tetrahedron is bonded to two others by shared oxygen ato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ouble-chain silicates are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yroxe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4000"/>
            <a:ext cx="838188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rystalline Structure of Silicate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69056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tetrahedral arrangement of ring silicate miner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tretch/>
        </p:blipFill>
        <p:spPr>
          <a:xfrm>
            <a:off x="797040" y="2762280"/>
            <a:ext cx="755172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rystalline Structure of Silicate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690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tetrahedral arrangement of single-chain silicate miner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801720" y="2762280"/>
            <a:ext cx="75423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3059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rystalline Structure of Silicate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690560"/>
            <a:ext cx="832464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ouble-Chain Silic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double-chain silicates, two single chains of tetrahedra bond to each 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ouble-chain silicates are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mphibo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heet Silic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heet silicates, each tetrahedron shares three oxygen atoms with other tetrahedra. The fourth oxygen atom bonds with an atom of aluminum or magnesium, which joins the sheets toge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ca minerals, such as muscovite and biotite, are sheet silic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rystalline Structure of Silicate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69056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tetrahedral arrangement of double-chain silicate miner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797040" y="2790720"/>
            <a:ext cx="7551720" cy="28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rystalline Structure of Silicate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690200"/>
            <a:ext cx="840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tetrahedral arrangement of sheet silicate miner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1"/>
          <a:stretch/>
        </p:blipFill>
        <p:spPr>
          <a:xfrm>
            <a:off x="811080" y="2819520"/>
            <a:ext cx="7523280" cy="30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rystalline Structure of Silicate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690560"/>
            <a:ext cx="840096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ramework Silic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framework silicates, each tetrahedron is bonded to four neighboring tetrahedra to form a three-dimensional net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meworks that contain only silicon-oxygen tetrahedra are the mineral quart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framework silicates contain some tetrahedra in which atoms of aluminum or other metals substitute for some of the silicon ato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rtz and feldspars are framework silic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rystalline Structure of Silicate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5760" y="1690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tetrahedral arrangement of framework silicate miner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787320" y="2943360"/>
            <a:ext cx="757080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81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rystalline Structure of Nonsilicate Minera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690560"/>
            <a:ext cx="838332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nonsilicate minerals have diverse chemical compositions, nonsilicate minerals display a vast variety of crystalline struc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crystalline structures for nonsilicate minerals include cubes, hexagonal prisms, and irregular ma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ructure of a nonsilicate crystal determines the mineral’s characteristic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crystal structure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st pack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ach metal atom is surrounded by 8 to 12 other metal atoms that are as close to each other as the charges of the atomic nuclei will al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ner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wo main groups of miner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x types of silicate crystalline struc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common nonsilicate crystalline struc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haracteristics of Minera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410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ner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a mineral, a substance must have four characterist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must be inorganic-it cannot be made of or by living thing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must occur naturally-it cannot be man-mad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must be a crystalline soli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must have a consistent chemical compos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haracteristics of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383320" cy="83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four characteristics of miner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892080" y="2743200"/>
            <a:ext cx="73612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Kinds of Minera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410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20 most common minerals are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 minerals are so common that they make up 90% of Earth’s crust. These minerals are quartz, orthoclase, plagioclase, muscovite, biotite, calcite, dolomite, halite, gypsum, and ferromagnesian miner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inerals can be classified into two main groups-silicate minerals and nonsilicate minerals-based on their chemical compo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Kinds of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licate 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licate miner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silicate minerals include quartz, feldspars, micas ,and ferromagnesian minerals, such as amphiboles, pyroxenes, and oliv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ate minerals make up 96% of Earth’s crust. Quartz and feldspar alone make up more than 50% of the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Kinds of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nsilicate 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nsilicate miner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rystalline Structur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type of mineral is characterized by a specific geometric arrangement of atoms, or it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rystalline struc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ryst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way that scientists study the structure of crystals is by using X rays. X rays that pass through a crystal and strike a photographic plate produce an image that shows the geometric arrangement of the atoms in the crys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rystalline Structure of Silicate Minera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334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 though there are many kinds of silicate minerals, their crystalline structure is made up of the same basic building blocks-silicon-oxygen tetrahed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licon-oxygen tetrahedr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asic unit of the structure of silicate minerals; a silicon ion chemically bonded to and surrounded by four oxygen 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solated Tetrahedral Silic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inerals that have isolated tetrahedra, only atoms other than silicon and oxygen atoms like silicon-oxygen tetrahedra toge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ivine is an isolated tetrahedral silic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ocksund</cp:lastModifiedBy>
  <cp:lastPrinted>2004-02-20T14:12:55Z</cp:lastPrinted>
  <dcterms:modified xsi:type="dcterms:W3CDTF">2013-10-15T16:45:00Z</dcterms:modified>
  <cp:revision>722</cp:revision>
  <dc:subject/>
  <dc:title>No Slide Title</dc:title>
</cp:coreProperties>
</file>